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A24-2C28-4261-96A2-AF41500F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E70-1EF6-408A-8FB5-A9093DBB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63D-5217-4C30-8CCB-070467A1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251-76C5-4E43-A8FE-9E8A3123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AE65-0355-48FC-A0C1-F801531D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D493-8628-41CF-92EB-8947655F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15B9-47D6-4E6A-95CA-CF25CD81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3A12-1226-47DA-9419-BD3B79ED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A5AA-8D7B-46BA-AEA0-F8160844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26C1-40CF-4F56-AD96-E216368A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318A-FBC3-41A2-98F7-72352A58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CEE-1796-4239-B319-67F4F7AF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6BE6-7DD6-47FA-9ECE-149D26A3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9DFA-B45C-4BEA-9802-C7574B7A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D0D9-CDFE-4563-8E94-F7597225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19B2-A7BB-4B08-873A-A4F08658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5904-B5A0-4906-AAC3-E382879D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78A-FFEE-446E-B69D-C426CBAA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247-D4E5-4C4B-916D-17F9796E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8AA-505A-4150-ABEA-245E2FB9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70E-BB19-4FC2-8DDF-94E5BBFE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408-89C9-4B6C-B0E4-4DF9DD0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2E2-F1D4-4423-AEB3-FFDBEE3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FBC-7AC7-484D-B2DD-C0FBEBB7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5AF3-90D9-4279-8A01-8BE5C7678C6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0CE8-713A-4125-B9FB-1B9BBBD0D0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asketball’s Effects and Influenc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ylor Hea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presentation has been prepared under the fair use exemption of the US Copyright Law and is restricted from further use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 on becoming either a Basketball coach or a Physical Education teach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ook away from this project that I can teach kids pretty wel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"History of Basketball."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ports Stop St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ORACLE, Web. 9 Sep. 2010. &lt;http://library.thinkquest.org/10615/no-frames/basketball/history.htm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lliams, Sandra. "Toronto basketball program keeps kids off street."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Exanimer.com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Web. 18 Nov. 2009. &lt;http://www.examiner.com/teen-parenting-in-toronto/toronto-basketball-program-keeps-kids-off-street&gt;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es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ketball is my favorite spo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’ve liked it since I was 5 years o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ry to play it everyda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nted to do project on something I really enjoye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p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pic: Basketball’s Influen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iving Question: How has basketball influenced youth in America and other countri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sis Statement: The effects and influences the game of basketball has on other countries as well as the United States is very substantial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act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ide from soccer, basketball is a leading sport in Europ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ketball is a great tool for keeping kids off the stree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ketball teaches kids how to work on a tea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 of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learned that basketball is much bigger in Europe than I expec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professional basketball players in the U.S. are more famous in Chi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made a survey for a third grade class asking if and where they played basketbal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planned a basketball tournament at my high school during lunch time and at West New Bern Rec Cent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taught a P.E. class at Trent Park Elementary School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Final Presentation Video_0001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Kids I taught at Trent Park were really excited for me to teach th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had to earn the privilege by behaving in their cla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ame I taught them required teamwork and cooper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showed me that basketball can really teach kids teamwork even at a young age and that is something that they will have to use later in lif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ccesses and 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me Manageme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ing on Tas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rastination was challenging because I tend to put things of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335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cces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tting everything d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ning how to ask questions effectivel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aching a cla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3:42:46Z</dcterms:created>
  <dc:creator>CEC131</dc:creator>
  <dc:description/>
  <dc:language>en-US</dc:language>
  <cp:lastModifiedBy>Theresa</cp:lastModifiedBy>
  <dcterms:modified xsi:type="dcterms:W3CDTF">2011-05-24T03:09:12Z</dcterms:modified>
  <cp:revision>10</cp:revision>
  <dc:subject/>
  <dc:title>Slide 1</dc:title>
</cp:coreProperties>
</file>